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obotz%20Menu%20Popup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0FD-6010-4143-A3F6-2C9EE038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58D-BAB2-4455-A76E-83D17759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B25-55D9-4981-B583-5310E214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E48-3E99-4816-973B-F6E2A0DB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70E-2DD1-475C-B031-DFC2AF2F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CDE-8F9A-4EC1-BAE2-25727D6C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49C0-7FCB-4310-99C4-FF3E05FE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F68-0BCD-4318-8064-C99F5019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499-611D-460A-9AED-28EDD130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0EF-02DA-464A-9E6F-9DCC7F83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E64-612C-4439-831D-051C04F5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B6D-3B17-4E62-A404-6B3EF749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A366-5A1C-4C0E-BD47-DBE0938E3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6.xml"/><Relationship Id="rId3" Type="http://schemas.openxmlformats.org/officeDocument/2006/relationships/slide" Target="slide33.xml"/><Relationship Id="rId4" Type="http://schemas.openxmlformats.org/officeDocument/2006/relationships/slide" Target="slide30.xml"/><Relationship Id="rId5" Type="http://schemas.openxmlformats.org/officeDocument/2006/relationships/slide" Target="slide27.xml"/><Relationship Id="rId6" Type="http://schemas.openxmlformats.org/officeDocument/2006/relationships/slide" Target="slide24.xml"/><Relationship Id="rId7" Type="http://schemas.openxmlformats.org/officeDocument/2006/relationships/slide" Target="slide21.xml"/><Relationship Id="rId8" Type="http://schemas.openxmlformats.org/officeDocument/2006/relationships/slide" Target="slide18.xml"/><Relationship Id="rId9" Type="http://schemas.openxmlformats.org/officeDocument/2006/relationships/slide" Target="slide15.xml"/><Relationship Id="rId10" Type="http://schemas.openxmlformats.org/officeDocument/2006/relationships/slide" Target="slide12.xml"/><Relationship Id="rId11" Type="http://schemas.openxmlformats.org/officeDocument/2006/relationships/slide" Target="slide9.xml"/><Relationship Id="rId12" Type="http://schemas.openxmlformats.org/officeDocument/2006/relationships/slide" Target="slide6.xml"/><Relationship Id="rId13" Type="http://schemas.openxmlformats.org/officeDocument/2006/relationships/slide" Target="slide3.xml"/><Relationship Id="rId14" Type="http://schemas.openxmlformats.org/officeDocument/2006/relationships/slide" Target="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13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7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13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13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13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" Target="slide6.xml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7.xml"/><Relationship Id="rId3" Type="http://schemas.openxmlformats.org/officeDocument/2006/relationships/slide" Target="slide4.xml"/><Relationship Id="rId4" Type="http://schemas.openxmlformats.org/officeDocument/2006/relationships/slide" Target="slide47.xml"/><Relationship Id="rId5" Type="http://schemas.openxmlformats.org/officeDocument/2006/relationships/slide" Target="slide47.xml"/><Relationship Id="rId6" Type="http://schemas.openxmlformats.org/officeDocument/2006/relationships/slide" Target="slide2.xml"/><Relationship Id="rId7" Type="http://schemas.openxmlformats.org/officeDocument/2006/relationships/slide" Target=""/><Relationship Id="rId8" Type="http://schemas.openxmlformats.org/officeDocument/2006/relationships/slide" Target="slide48.xml"/><Relationship Id="rId9" Type="http://schemas.openxmlformats.org/officeDocument/2006/relationships/slide" Target="slide49.xml"/><Relationship Id="rId10" Type="http://schemas.openxmlformats.org/officeDocument/2006/relationships/slide" Target="slide49.xml"/><Relationship Id="rId11" Type="http://schemas.openxmlformats.org/officeDocument/2006/relationships/slide" Target="slide49.xml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13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13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13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13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13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13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audio" Target="../media/Robotz%20Menu%20Popup.wav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" Target="slide47.xml"/><Relationship Id="rId5" Type="http://schemas.openxmlformats.org/officeDocument/2006/relationships/slide" Target="slide47.xml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audio" Target="../media/Robotz%20Menu%20Popup.wav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7.xml"/><Relationship Id="rId3" Type="http://schemas.openxmlformats.org/officeDocument/2006/relationships/slide" Target="slide47.xml"/><Relationship Id="rId4" Type="http://schemas.openxmlformats.org/officeDocument/2006/relationships/slide" Target="slide47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" Target="slide48.xml"/><Relationship Id="rId8" Type="http://schemas.openxmlformats.org/officeDocument/2006/relationships/slide" Target="slide49.xml"/><Relationship Id="rId9" Type="http://schemas.openxmlformats.org/officeDocument/2006/relationships/slide" Target="slide49.xml"/><Relationship Id="rId10" Type="http://schemas.openxmlformats.org/officeDocument/2006/relationships/slide" Target="slide49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403848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228600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586728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2286000"/>
            <a:ext cx="0" cy="358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295280"/>
            <a:ext cx="2666880" cy="556272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Prize 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Prize 1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Prize 1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Prize 1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Prize 1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Prize 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Prize 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Prize 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Prize 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8" action="ppaction://hlinksldjump"/>
              </a:rPr>
              <a:t>Prize 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9" action="ppaction://hlinksldjump"/>
              </a:rPr>
              <a:t>Prize 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0" action="ppaction://hlinksldjump"/>
              </a:rPr>
              <a:t>Prize 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1" action="ppaction://hlinksldjump"/>
              </a:rPr>
              <a:t>Prize 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2" action="ppaction://hlinksldjump"/>
              </a:rPr>
              <a:t>Prize 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3" action="ppaction://hlinksldjump"/>
              </a:rPr>
              <a:t>Prize 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4" action="ppaction://hlinksldjump"/>
          </p:cNvPr>
          <p:cNvSpPr/>
          <p:nvPr/>
        </p:nvSpPr>
        <p:spPr>
          <a:xfrm>
            <a:off x="1600200" y="362916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18763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6680" y="5381640"/>
            <a:ext cx="183492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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. Rutherford B. Hay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02" name="">
            <a:hlinkClick r:id="rId1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. When was Jackie Chan’s birth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April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April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. When was Jackie Chan’s birth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April 7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April 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 April 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 April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. April 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. What is Michigan's state bi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Rob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C. Blue Jay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. What is Michigan's state bi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Rob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Eag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 Blue Ja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 Gul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. Rob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. How many teams are there in the NB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C. 4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B.</a:t>
            </a:r>
            <a:r>
              <a:rPr b="0" lang="en-US" sz="2400" spc="-1" strike="noStrike" u="sng">
                <a:solidFill>
                  <a:srgbClr val="3399ff"/>
                </a:solidFill>
                <a:uFillTx/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. How many teams are in the NB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3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2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 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3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. 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What is a mathematical problem with a finite combination of symbols and no equal 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A. Equatio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C. Expres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. Who sells the most computers? 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D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D. HP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. Who sells the most compu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Del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Ap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 Sams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 HP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. H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. How many keys are on a desktop QWERTY Keybo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10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9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. How many keys are on a desktop QWERTY keybo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10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9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 10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 1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. 10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. Which sign represents the generalized reaction Chemical decomposi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ahoma"/>
              </a:rPr>
              <a:t>2H2O2 → 2H2O + O2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B.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ahoma"/>
              </a:rPr>
              <a:t>AB → A +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. Which sign represents the generalized reaction Chemical decomposi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ahoma"/>
              </a:rPr>
              <a:t>2MClO3 → 2MCl + 3O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C.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ahoma"/>
              </a:rPr>
              <a:t>2H2O2 → 2H2O + O2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 B.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ahoma"/>
              </a:rPr>
              <a:t>AB → A + B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D. CaCO3 → CaO + CO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.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B → A + B</a:t>
            </a:r>
            <a:r>
              <a:rPr b="1" lang="en-US" sz="36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. What year was the cell phone inv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19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1973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What is a mathematical problem without an equal 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A. Equa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C. Expres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B. Algorith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 D. Add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7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. When was the first cell phone inv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19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197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 196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 197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. 197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1. Where is the Mona Lisa located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New Engla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Paris, Franc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1. Where is the Mona Lisa located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New Eng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Mary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 Washington D.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 Paris, Fran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. Paris 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2. What is the name of the first lapt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Osborn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Boston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2. What is the name of the first lapt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Osborn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Boston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 Gilla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 Antis  1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. Osborn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3. Who invented the toilet bow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Henry Sh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B. Thomas C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3. Who invented the first toilet bow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Jefferson For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Henry Sh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 Thomas Crap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 Kyle Eas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. Expres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. Thomas cra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. When was the first video game inv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195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195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. When was the first videogame inv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195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1954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1957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 195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. 19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. What was the first movie cal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Dracul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D. The Jazz Singe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. What was the first movie cal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Drac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4800600"/>
            <a:ext cx="3429000" cy="838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 The World, The Flesh And the De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B. Vampir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D. The Jazz Sin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5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6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. The Jazz S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380880"/>
            <a:ext cx="7721640" cy="52146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Sorry, but that is incorrec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Thank you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play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62720" y="52578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67280" y="5638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ight Mouse Click and Choose END 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295280" y="914400"/>
            <a:ext cx="6731280" cy="39942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A TEACH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A PAR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THE PRINCIPA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Your decis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54864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57150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ight Mouse Click and Choose GO, Previously 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04920" y="1981080"/>
            <a:ext cx="8559720" cy="2471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Ask The Audienc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52578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867280" y="54864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ight Mouse Click and Choose GO, Previously 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Who invented Calcul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C. Isaac Newt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D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Albert Einste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28600" y="1295280"/>
            <a:ext cx="8559720" cy="43002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CONGRATULATIONS!!You are now 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TECHKNOW GENIUS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Who invented Calculu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Thomas Jeffer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C. Isaac New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B. Benjamin Frankl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 D. Albert Ein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. Isaac Newt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84" name="">
            <a:hlinkClick r:id="rId1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Who was the 1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resident of the United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Zachery Taylo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Rutherford B. Hay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Who was the 1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resident of the United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. Zachery Tay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James Garfiel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Rutherford B. Hay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Andrew Johns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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3:26:41Z</dcterms:created>
  <dc:creator>MULACXAV</dc:creator>
  <dc:description/>
  <dc:language>en-US</dc:language>
  <cp:lastModifiedBy>MULACXAV</cp:lastModifiedBy>
  <dcterms:modified xsi:type="dcterms:W3CDTF">2010-11-12T13:34:49Z</dcterms:modified>
  <cp:revision>6</cp:revision>
  <dc:subject/>
  <dc:title>Slide 1</dc:title>
</cp:coreProperties>
</file>